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9E3-9476-4C78-BB00-37D82719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187-4B3D-497C-BBBB-74586012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B05-4DAE-4A20-BECF-AE1E4B05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DD0-CDB6-49FE-88AB-473A82E9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442-568E-4F22-BEBA-4F2DB960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216-C7AC-4603-89CF-CE46E2ED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7E8-1DA4-49C8-B532-F9F37F3E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A90-AACC-47BA-A8AE-F3205F61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78C-4B0C-439C-9A9A-0F55B67E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A29-6050-4851-B853-6A011936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380-91FE-46D4-B446-0A8C434B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40A-1FBB-434E-A30B-189AC9EB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75F1F875-C0D4-4C95-8D5A-BCEA6448184A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XPReS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 = Express Production Real-time e-VLBI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year project (March 2006-2009) funded by the European Commission (DG-INFSO), Sixth  Framework Programme, Contract #026642 EXP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ed at 3.9 million 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llaboration: 19 radioastronomy institutes and research and education networks (NRENs) representing 14 countries on 6 conti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to create a distributed, large-scale astronomical instrument of continental and inter-continental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s: high-speed communication networks operating in real-time and connecting some of the largest and most sensitive radio telescopes on the planet to the central correlator in the 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375-8DEB-4F9F-930F-A07386BE15F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feromet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0000" y="841320"/>
            <a:ext cx="8604000" cy="517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80A-876B-4EDB-9DF7-11D351F989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-VLBI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VL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recording data and shipping disks to the central processo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port data over networks and correlate i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-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weeks from the observation &amp; correlation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 problems in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transient events and schedule near-immediate follow-on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4E4-528B-4D48-9330-B1DAC069F3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raditional VLBI vs. e-VLBI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1303200"/>
            <a:ext cx="8683560" cy="47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3B6-8071-4647-A249-697EC70333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 Countries, 6 Conti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Astronomy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t Institute for VLBI in Europe (Coordinator)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cibo Observatory, National Astronomy and Ionosphere Center, Cornell University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stralia Telescope National Facility, a Division of CSIRO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e of Radioastronomy, National Institute for Astrophysics (INAF), 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drell Bank Observatory, University of Manchester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Planck Institute for Radio Astronomy (MPIfR),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sähovi Radio Observatory, Helsinki University of Technology (TKK), 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tional Center of Geographical Information, National Geographic Institute (CNIG-IGN)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tebeesthoek Radio Astronomy Observatory, National Research Foundation, South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herlands Foundation for Research in Astronomy (ASTRON), NWO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sala Space Observatory, Chalmers University of Technology, 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nghai Astronomical Observatory, Chinese Academy of Sciences, 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run Centre for Astronomy, Nicolaus Copernicus University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able Integrated Geodetic Observatory (TIGO), University of Concepción,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tspils International Radio Astronomy Center, Ventspils University College, Lat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ional Research and Education Networks (NRE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RNet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NTE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znan Supercomputing and Networking Center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Fnet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79B-31B7-4F91-A215-D148F0824B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ticipating Telescopes and Network Paths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6019920"/>
            <a:ext cx="822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Logical network path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DD4-2A6B-4D5F-99FE-52A43E81A7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Network Dia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092240"/>
            <a:ext cx="7543800" cy="492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011-4DE4-4A08-849D-D39197259C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#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EDD-AF37-4FE5-91EF-8C96946912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VLBI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tronomy technique: Very Long Baseline Interfer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dio telescope looks at an object in the sky and collects data to create an “image” of the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telescopes can view the same object simultaneously.  The distance between the telescopes is the baseline.  The baseline can be compared to building a single telescope with the diameter of this distance (sort o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olution increases with additional telescopes and longer base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nsitivity of the image increases with the data collection rate at the telesc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entral processor decodes, aligns and correlates the data for every possible telescope comb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images of cosmic radio sources with up to a hundred times better resolution than images from the best optical te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EEC-B84F-4A4B-BF04-AAC5D24718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perture Synthesis Imag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38080" y="1219320"/>
            <a:ext cx="7315200" cy="3657600"/>
            <a:chOff x="838080" y="1219320"/>
            <a:chExt cx="7315200" cy="3657600"/>
          </a:xfrm>
        </p:grpSpPr>
        <p:grpSp>
          <p:nvGrpSpPr>
            <p:cNvPr id="97" name=""/>
            <p:cNvGrpSpPr/>
            <p:nvPr/>
          </p:nvGrpSpPr>
          <p:grpSpPr>
            <a:xfrm>
              <a:off x="838080" y="1219320"/>
              <a:ext cx="7315200" cy="3657600"/>
              <a:chOff x="838080" y="1219320"/>
              <a:chExt cx="7315200" cy="3657600"/>
            </a:xfrm>
          </p:grpSpPr>
          <p:pic>
            <p:nvPicPr>
              <p:cNvPr id="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244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80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80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668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56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956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244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"/>
            <p:cNvSpPr/>
            <p:nvPr/>
          </p:nvSpPr>
          <p:spPr>
            <a:xfrm>
              <a:off x="4800600" y="4479840"/>
              <a:ext cx="334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mage Credits: Avruch and Pogrebenk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echnique that uses a number of telescopes to simulate a much larger one.   A larger dish, real or simulated, improves image clarity and brightness.  This requires coordination between the telescopes and a supercomputer.  Consider the examples displaying aperture size, aperture distribution and image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The science of e-VL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36D-A442-4AB9-9D10-1206299497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ferometry Makes a Virtual Telescop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4840" y="1257480"/>
            <a:ext cx="87343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E7C-D3BF-4F45-87D8-41FBDD6BD1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the correlator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, purpose-designed and purpose-built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hesis imaging simulates a very large telescope by measuring Fourier components of sky brightness on each baselin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s, aligns and correlates the data for every possible telescope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N MkIV data processor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 silicon, 1024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ata is 1 Gb/s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100 T-operations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43A-5914-4940-B1D8-F0468E82AB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8-07-10T09:47:35Z</dcterms:modified>
  <cp:revision>30</cp:revision>
  <dc:subject/>
  <dc:title>Slide 1</dc:title>
</cp:coreProperties>
</file>